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46E38-99AF-4114-9F5B-B62B26759D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41F2E-71E1-4FE9-BC5C-207E3215A2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D3BB8-714B-4041-8BFA-9CC3895C3F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1B57C-DFF2-4EFD-B774-9746814376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88E74-8669-4540-B39B-6B61F70967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CD93F-F4AC-43CB-8EB7-C3A101EDEE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BEC6D-78B6-45FB-A4AD-29C62B73F3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B19B2-B22C-41A5-A866-4D3810251C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C5735-B6A8-4814-921D-DBF97CC2D3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2E468-A009-4CA2-B367-4B615FB9E9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6325B-1EE2-4583-BCD0-2219BFA9D0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C10B2-76D4-42AB-A732-DFB84C7D28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images.google.com/imgres?imgurl=http://www.mas.ucy.ac.cy/NEWMAS/images/ucy_logo_clean.png&amp;imgrefurl=http://www.mas.ucy.ac.cy/NEWMAS/images/&amp;h=182&amp;w=185&amp;sz=41&amp;tbnid=zwk0cIvSOnVJ3M:&amp;tbnh=94&amp;tbnw=96&amp;hl=en&amp;start=20&amp;prev=/images%3Fq%3Ducy%2Blogo%26svnum%3D10%26hl%3Den%26lr%3D%26rls%3DGGLG,GGLG:2006-01,GGLG:en%26sa%3DN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229600" y="6477120"/>
            <a:ext cx="914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L8-</a:t>
            </a:r>
            <a:fld id="{135956EA-CB67-4C99-9997-40B82B2DEDBE}" type="slidenum"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33520" y="914400"/>
            <a:ext cx="807696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fd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29600" y="304920"/>
            <a:ext cx="557280" cy="5461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5440" y="64771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ΠΛ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35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 – Δομές Δεδομένων και Αλγόριθμο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ια Ηλ. Μηχ. και Μηχ. Υπο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ercise 1 Solutio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新細明體"/>
              </a:rPr>
              <a:t>We will move along the elements of A. For each new element we will compare the element with the current element of B. If they match, we will traverse A and B until we find a new element in A and a new element in B accordingly. If the elements are the same w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eat the previous step until the end of the lists. Else we report that the lists do not have the same set of element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新細明體"/>
              </a:rPr>
              <a:t>The above algorithm is O(n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FF148-E943-4295-B62D-DBFC8494760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ercise 2 Solutio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Examine linearly all the elements a of A. For each element a, perform a binary search in the elements of B looking for an element b such that b=m-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Ex2(m,A,B) {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Foreach 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b=binarysearch(m-a, B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if (found(b)) {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print (“%d + %d = %d”, a,b,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return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print (“element was not found in b”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50F4B-CEA1-4F3C-B127-9FCA9CEDF259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6T09:10:03Z</dcterms:created>
  <dc:creator>annap</dc:creator>
  <dc:description/>
  <dc:language>en-US</dc:language>
  <cp:lastModifiedBy>DZ</cp:lastModifiedBy>
  <dcterms:modified xsi:type="dcterms:W3CDTF">2006-10-29T07:24:04Z</dcterms:modified>
  <cp:revision>347</cp:revision>
  <dc:subject/>
  <dc:title>l</dc:title>
</cp:coreProperties>
</file>